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ABA-E3FA-4CFF-857B-64EA3593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03A-A144-409F-9072-E0A8D19F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691-2DA5-4659-918C-1905DD72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BBE-FEDD-4090-832C-0C7CC123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224-0C8E-46B6-848B-52CF0F7F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882-304B-4065-BDC8-D822FF65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E03403-46E2-4F65-93A4-A237EC74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66110-71C5-4908-8EFF-B798982F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11488-1DBA-431E-83BE-C4B1D181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5CA-AE3E-4643-B34F-44F6597E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AF27A-A55E-4F1D-B199-9A2622B2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5AF54-A269-4078-B86E-ADFE1126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09286-BE14-4906-B8FB-B44AED7A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F7B2C-FDD3-40FF-A0B9-1EAF04C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124BB-D351-4AD1-BB7E-A6D85475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ECEEE-F048-4B3A-AFD0-7371D60F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94F73-40ED-4161-A146-93EC8D25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10041-6388-453D-82FD-3839777B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7C0B03-2CCA-4CC2-A055-89A90EBB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46D-916B-41DC-BE0B-19387E1E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185-CA90-4DF8-A379-FB79FA99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31A-492F-40C5-9D73-1CD5A11D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BCD-FE3A-41FE-897D-E1F0542A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546-113F-4DFB-8C2C-21F0D70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97E0-D3A6-4702-A0F9-DAE7DB1010F9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8672-1DD1-41B4-846E-3402418DDA6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259C-BAE2-4B2D-AD93-A96EED85F09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8FB5-6D32-4F52-8770-E4AB17E8847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FD6-71B9-415B-99B9-D49B8676ECA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01D8-D5CC-437A-BC71-7ECCBC8521B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F2E7-BFA5-4B08-AE44-FD28B76BEE2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7B67-8756-4491-8AD6-A289DC670F5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0069-2149-4965-A929-E0977BBFD572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. Ros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CF85-A576-4FA4-BDA3-009A4AFAED20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6194-9042-42A9-AB83-D486C43D1B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FAA-55AA-40A5-8E9C-FBEF105D493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F5D6-CF91-43FB-901C-95093FF606E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D57F-AFB5-4D0E-B569-5D084D57E54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5860-FA89-44D5-9FAE-A32451F4BDE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4498-7163-47BE-A1A7-06B88A02552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gegneria del Web e Applicazion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Web Applications – Aj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pt: recuperaD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27080" y="836280"/>
            <a:ext cx="7866000" cy="54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Questa funzione recupera i dati dal form.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unction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cuperaDati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orm = document.forms['form'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 nome = form.nome.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lore = 'nome=' + escape(no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turn valo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Questa funzione viene richiamata dall'oggetto xmlHttpReq per l'aggiornamento asincrono dell'elemento risultato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unction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aggiornaPagina(stringa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document.getElementById("risultato").innerHTML = strin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isultato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Immagine 2" descr=""/>
          <p:cNvPicPr/>
          <p:nvPr/>
        </p:nvPicPr>
        <p:blipFill>
          <a:blip r:embed="rId1"/>
          <a:stretch/>
        </p:blipFill>
        <p:spPr>
          <a:xfrm>
            <a:off x="1428840" y="1268280"/>
            <a:ext cx="69451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rodu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2920" y="1267920"/>
            <a:ext cx="741528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ronimo di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synchronous JavaScript and XM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è un framework di sviluppo per realizzare Web applications interatt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viluppo di applicazioni con AJAX si basa su uno scambio di dati in background fra client (browser ) e server, che consente l'aggiornamento dinamico di una pagina web senza esplicito ricaricamento da parte dell'ut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JAX è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sincro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el senso che i dati extra sono richiesti al server e caricati in background senza interferire con il comportamento della pagina esist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rmalmente le funzioni richiamate sono scritte con il linguaggio JavaScript (non è però obbligato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ntaggi di AJ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44360" y="1196640"/>
            <a:ext cx="7630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hiesta tradizionale Client-Ser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hiesta AJ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Connettore 2 2"/>
          <p:cNvCxnSpPr/>
          <p:nvPr/>
        </p:nvCxnSpPr>
        <p:spPr>
          <a:xfrm flipV="1">
            <a:off x="2509560" y="2071440"/>
            <a:ext cx="2391480" cy="180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24" name="Connettore 2 8"/>
          <p:cNvCxnSpPr>
            <a:endCxn id="625" idx="6"/>
          </p:cNvCxnSpPr>
          <p:nvPr/>
        </p:nvCxnSpPr>
        <p:spPr>
          <a:xfrm flipH="1">
            <a:off x="2699640" y="2205000"/>
            <a:ext cx="2159640" cy="2880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26" name="Connettore 2 10"/>
          <p:cNvCxnSpPr/>
          <p:nvPr/>
        </p:nvCxnSpPr>
        <p:spPr>
          <a:xfrm flipV="1">
            <a:off x="2700360" y="2678040"/>
            <a:ext cx="2239200" cy="30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27" name="Connettore 2 12"/>
          <p:cNvCxnSpPr>
            <a:stCxn id="628" idx="3"/>
          </p:cNvCxnSpPr>
          <p:nvPr/>
        </p:nvCxnSpPr>
        <p:spPr>
          <a:xfrm flipH="1">
            <a:off x="2509200" y="2755440"/>
            <a:ext cx="2540520" cy="313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629" name="CasellaDiTesto 13"/>
          <p:cNvSpPr/>
          <p:nvPr/>
        </p:nvSpPr>
        <p:spPr>
          <a:xfrm>
            <a:off x="3348000" y="17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CasellaDiTesto 18"/>
          <p:cNvSpPr/>
          <p:nvPr/>
        </p:nvSpPr>
        <p:spPr>
          <a:xfrm>
            <a:off x="3348000" y="234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Connettore 2 19"/>
          <p:cNvCxnSpPr/>
          <p:nvPr/>
        </p:nvCxnSpPr>
        <p:spPr>
          <a:xfrm flipV="1">
            <a:off x="2626920" y="4436280"/>
            <a:ext cx="22741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32" name="Connettore 2 15"/>
          <p:cNvCxnSpPr/>
          <p:nvPr/>
        </p:nvCxnSpPr>
        <p:spPr>
          <a:xfrm flipH="1">
            <a:off x="2699640" y="4868640"/>
            <a:ext cx="21596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633" name="CasellaDiTesto 23"/>
          <p:cNvSpPr/>
          <p:nvPr/>
        </p:nvSpPr>
        <p:spPr>
          <a:xfrm>
            <a:off x="3419640" y="4067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CasellaDiTesto 24"/>
          <p:cNvSpPr/>
          <p:nvPr/>
        </p:nvSpPr>
        <p:spPr>
          <a:xfrm>
            <a:off x="3419640" y="4500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e 16"/>
          <p:cNvSpPr/>
          <p:nvPr/>
        </p:nvSpPr>
        <p:spPr>
          <a:xfrm>
            <a:off x="1403280" y="1773360"/>
            <a:ext cx="129708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e 30"/>
          <p:cNvSpPr/>
          <p:nvPr/>
        </p:nvSpPr>
        <p:spPr>
          <a:xfrm>
            <a:off x="4859280" y="1773360"/>
            <a:ext cx="1297080" cy="1150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CasellaDiTesto 35"/>
          <p:cNvSpPr/>
          <p:nvPr/>
        </p:nvSpPr>
        <p:spPr>
          <a:xfrm>
            <a:off x="1547640" y="2197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CasellaDiTesto 36"/>
          <p:cNvSpPr/>
          <p:nvPr/>
        </p:nvSpPr>
        <p:spPr>
          <a:xfrm>
            <a:off x="5003640" y="2133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e 37"/>
          <p:cNvSpPr/>
          <p:nvPr/>
        </p:nvSpPr>
        <p:spPr>
          <a:xfrm>
            <a:off x="1403280" y="4076640"/>
            <a:ext cx="1297080" cy="1440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e 38"/>
          <p:cNvSpPr/>
          <p:nvPr/>
        </p:nvSpPr>
        <p:spPr>
          <a:xfrm>
            <a:off x="4859280" y="4076640"/>
            <a:ext cx="1297080" cy="1152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CasellaDiTesto 41"/>
          <p:cNvSpPr/>
          <p:nvPr/>
        </p:nvSpPr>
        <p:spPr>
          <a:xfrm>
            <a:off x="1547640" y="4572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asellaDiTesto 42"/>
          <p:cNvSpPr/>
          <p:nvPr/>
        </p:nvSpPr>
        <p:spPr>
          <a:xfrm>
            <a:off x="4932360" y="4500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aratteristi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67920" y="1484280"/>
            <a:ext cx="76964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JA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e richieste vengono gestite in modo trasparente all’utente e senza un aggiornamento fisico dell’intera pagina, ma solo una porzione della stessa, senza dare all’utente l’impressione di essere in attesa di una risposta dal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lass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avascrip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gestire questo tipo di richieste è l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XMLHttpReques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permette l’invio e la recezione di informazioni vi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Get o Pos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JAX può essere abbinato all’uso di tecnologie server side (ese. script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SP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permettere alle richieste di sfruttare risorse server (es. eseguire query su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ataba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.1: Form di benvenu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6964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!-- Ad ogni submit del form viene richiamata la funzione xmlhttpPost che riceve il nome di un file PHP (script.ph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form name="form"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onSubmit="javascript:xmlhttpPost(‘script.php'); return false;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p&gt;Digita il tuo n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input name="nome"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type="tex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input value="Invia"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type="submi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div id="risultato"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le script.ph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16000" y="1233360"/>
            <a:ext cx="7772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/*Script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$nome = $_POST['nome'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echo "&lt;p&gt;Benvenuto &lt;strong&gt;$nome&lt;/strong!&lt;/p&gt;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Javascript: xmlhttpP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63600" y="1142640"/>
            <a:ext cx="7772400" cy="510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script language="Javascrip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Funzione per la gestione asincrona AJ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unc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xmlhttpPost(str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Inizializzo l'oggetto xmlHttp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xmlHttpReq =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 = th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 Se il browser è Mozilla/Safari, utilizzeremo l'oggetto XMLHttpRequest per lo scambio di dati tra browser e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window.XMLHttpReques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 = ne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XMLHttpReques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 Se il Browser è Microsoft (IE), utilizzeremo Microsoft.XML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el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window.ActiveXObjec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 = ne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ActiveXObject("Microsoft.XMLHTTP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 (contin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pt xmlhttpPost (continu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Apro il canale di connessione per regolare il tipo di richi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Passo come parametri il tipo di richiesta, url e s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o meno un operazione asincrona (isAsy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open('POST', strURL, 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setto l'header dell'og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setRequestHeader('Content-Type', 'application/x-www-form-urlencoded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 Passo alla richiesta i valori del form in modo da generare l'output desiderato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send(recuperaValore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contin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pt xmlhttpPost (continu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20680" y="980640"/>
            <a:ext cx="7772400" cy="52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 Valuto lo stato della richiesta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onreadystatechange = fun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Gli stati di una richiesta possono esser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0 - UNINIT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1 -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2 - 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3 - INTE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4 - COMPLETE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Se lo stat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comp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f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self.xmlHttpReq.readyState == 4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 Aggiorno la pagina con la risposta ritornata dalla precendete richiesta dal web server.Quando la richiest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terminata il responso della richiest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disponibie come responseText.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aggiornaPagina(self.xmlHttpReq.response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 (contin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enico</dc:creator>
  <dc:description/>
  <dc:language>en-US</dc:language>
  <cp:lastModifiedBy>Domenico Rosaci</cp:lastModifiedBy>
  <dcterms:modified xsi:type="dcterms:W3CDTF">2017-09-24T21:21:19Z</dcterms:modified>
  <cp:revision>141</cp:revision>
  <dc:subject/>
  <dc:title>Corso di Ingegneria del Web A A. 2014 2015  Domenico Rosaci  Linguaggi di Scripting</dc:title>
</cp:coreProperties>
</file>